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12B-A807-45F6-B2BB-02EAD377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138B-8559-4CB5-9644-4C032B1C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691-BAE3-49F9-937B-A7354F1E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83E-FBE2-4359-9AA6-6CA5AD57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871E-D00C-4A5A-B9F5-B90E0B92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752D-2491-490F-BE4A-65EA1FF2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6B66-E7BA-4658-BDD5-9602327F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065C-F0D9-4264-B602-796B63E8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8364-219C-4BA8-B012-40DAE493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B149-9C51-4352-A003-76445933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B84B-FB7B-4C2A-8CA7-9E719EC7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EE0-B04D-48F8-BE49-DC6B9C66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9908-61C3-4B1B-A8BD-9055F278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0196-4E86-40F0-BDA0-A4F2D60D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9B75-0DD5-4C1B-9EE9-8EEF2C08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0987-1EC2-4B80-A679-78FB98BD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4D16-87E1-4849-9D41-BBC1F034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EEFE5-401A-4575-BA12-3AC61A72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BBE99-7255-4D77-81D4-9FC66ADD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57A8-C1A2-4205-95E2-FC441630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B2BF2-986D-4991-BF4C-EFFE9150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D538D-FB49-4950-9185-0F29D660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63D-E08A-43E3-90D3-03E7A995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6B9C2-1C77-4011-A386-8D290FAF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87C58-9A3E-4C14-9A98-AFF977D8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FBA45-237F-4510-9137-71A87D2D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8E822-7FFF-4482-B2C1-52BAB967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03499-C27F-4ED2-88A9-857E2437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00B30-6925-4BD3-9E63-CF0148DD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DDDAA-8055-49FD-B7F4-FF06F52B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3CE-114F-40FE-B312-82C9B7DC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F9B-0BD7-4DE0-A088-10D2383C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80C-4FF0-42A6-A853-18DA5619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F5C-B9F7-49FA-ABA2-956E8B34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3A8-6016-4020-9741-BDDA7E69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84E-F86C-445C-8AC3-28C64AD3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C313-F21F-4A08-9D02-2E9A313B74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4A18-1E0D-4A0E-9383-F6D8F0A1026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35C7-BB21-481A-AF7D-A77761BD63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05000" y="3124080"/>
            <a:ext cx="47340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857160"/>
            <a:ext cx="8686800" cy="5143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" descr=""/>
          <p:cNvPicPr/>
          <p:nvPr/>
        </p:nvPicPr>
        <p:blipFill>
          <a:blip r:embed="rId2"/>
          <a:stretch/>
        </p:blipFill>
        <p:spPr>
          <a:xfrm>
            <a:off x="3073320" y="28242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"/>
          <p:cNvPicPr/>
          <p:nvPr/>
        </p:nvPicPr>
        <p:blipFill>
          <a:blip r:embed="rId3"/>
          <a:stretch/>
        </p:blipFill>
        <p:spPr>
          <a:xfrm>
            <a:off x="7135920" y="28242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" descr=""/>
          <p:cNvPicPr/>
          <p:nvPr/>
        </p:nvPicPr>
        <p:blipFill>
          <a:blip r:embed="rId4"/>
          <a:stretch/>
        </p:blipFill>
        <p:spPr>
          <a:xfrm>
            <a:off x="2455920" y="4005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5"/>
          <a:stretch/>
        </p:blipFill>
        <p:spPr>
          <a:xfrm>
            <a:off x="3103560" y="4005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6199200" y="3932280"/>
            <a:ext cx="1757520" cy="415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" descr=""/>
          <p:cNvPicPr/>
          <p:nvPr/>
        </p:nvPicPr>
        <p:blipFill>
          <a:blip r:embed="rId7"/>
          <a:stretch/>
        </p:blipFill>
        <p:spPr>
          <a:xfrm>
            <a:off x="3087720" y="28242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" descr=""/>
          <p:cNvPicPr/>
          <p:nvPr/>
        </p:nvPicPr>
        <p:blipFill>
          <a:blip r:embed="rId8"/>
          <a:stretch/>
        </p:blipFill>
        <p:spPr>
          <a:xfrm>
            <a:off x="3059280" y="5583240"/>
            <a:ext cx="1441440" cy="320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" descr=""/>
          <p:cNvPicPr/>
          <p:nvPr/>
        </p:nvPicPr>
        <p:blipFill>
          <a:blip r:embed="rId9"/>
          <a:stretch/>
        </p:blipFill>
        <p:spPr>
          <a:xfrm>
            <a:off x="3967200" y="51418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"/>
          <p:cNvPicPr/>
          <p:nvPr/>
        </p:nvPicPr>
        <p:blipFill>
          <a:blip r:embed="rId10"/>
          <a:stretch/>
        </p:blipFill>
        <p:spPr>
          <a:xfrm>
            <a:off x="5148360" y="5575320"/>
            <a:ext cx="1511280" cy="320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" descr=""/>
          <p:cNvPicPr/>
          <p:nvPr/>
        </p:nvPicPr>
        <p:blipFill>
          <a:blip r:embed="rId11"/>
          <a:stretch/>
        </p:blipFill>
        <p:spPr>
          <a:xfrm>
            <a:off x="6127920" y="51436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" descr=""/>
          <p:cNvPicPr/>
          <p:nvPr/>
        </p:nvPicPr>
        <p:blipFill>
          <a:blip r:embed="rId12"/>
          <a:stretch/>
        </p:blipFill>
        <p:spPr>
          <a:xfrm>
            <a:off x="7294680" y="5589720"/>
            <a:ext cx="1511280" cy="32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" descr=""/>
          <p:cNvPicPr/>
          <p:nvPr/>
        </p:nvPicPr>
        <p:blipFill>
          <a:blip r:embed="rId13"/>
          <a:stretch/>
        </p:blipFill>
        <p:spPr>
          <a:xfrm>
            <a:off x="8288280" y="5141880"/>
            <a:ext cx="289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247680" y="1709640"/>
            <a:ext cx="8717040" cy="3438720"/>
            <a:chOff x="247680" y="1709640"/>
            <a:chExt cx="8717040" cy="34387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247680" y="1709640"/>
              <a:ext cx="8648640" cy="343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468360" y="3532320"/>
              <a:ext cx="8496360" cy="155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Picture 1" descr=""/>
          <p:cNvPicPr/>
          <p:nvPr/>
        </p:nvPicPr>
        <p:blipFill>
          <a:blip r:embed="rId3"/>
          <a:stretch/>
        </p:blipFill>
        <p:spPr>
          <a:xfrm>
            <a:off x="1461960" y="220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" descr=""/>
          <p:cNvPicPr/>
          <p:nvPr/>
        </p:nvPicPr>
        <p:blipFill>
          <a:blip r:embed="rId4"/>
          <a:stretch/>
        </p:blipFill>
        <p:spPr>
          <a:xfrm>
            <a:off x="3606840" y="2205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" descr=""/>
          <p:cNvPicPr/>
          <p:nvPr/>
        </p:nvPicPr>
        <p:blipFill>
          <a:blip r:embed="rId5"/>
          <a:stretch/>
        </p:blipFill>
        <p:spPr>
          <a:xfrm>
            <a:off x="5738760" y="220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"/>
          <p:cNvPicPr/>
          <p:nvPr/>
        </p:nvPicPr>
        <p:blipFill>
          <a:blip r:embed="rId6"/>
          <a:stretch/>
        </p:blipFill>
        <p:spPr>
          <a:xfrm>
            <a:off x="7870680" y="22194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" descr=""/>
          <p:cNvPicPr/>
          <p:nvPr/>
        </p:nvPicPr>
        <p:blipFill>
          <a:blip r:embed="rId7"/>
          <a:stretch/>
        </p:blipFill>
        <p:spPr>
          <a:xfrm>
            <a:off x="1461960" y="2708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" descr=""/>
          <p:cNvPicPr/>
          <p:nvPr/>
        </p:nvPicPr>
        <p:blipFill>
          <a:blip r:embed="rId8"/>
          <a:stretch/>
        </p:blipFill>
        <p:spPr>
          <a:xfrm>
            <a:off x="3592440" y="2708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" descr=""/>
          <p:cNvPicPr/>
          <p:nvPr/>
        </p:nvPicPr>
        <p:blipFill>
          <a:blip r:embed="rId9"/>
          <a:stretch/>
        </p:blipFill>
        <p:spPr>
          <a:xfrm>
            <a:off x="5753160" y="2637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" descr=""/>
          <p:cNvPicPr/>
          <p:nvPr/>
        </p:nvPicPr>
        <p:blipFill>
          <a:blip r:embed="rId10"/>
          <a:stretch/>
        </p:blipFill>
        <p:spPr>
          <a:xfrm>
            <a:off x="7870680" y="2651040"/>
            <a:ext cx="358920" cy="319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68360" y="4249800"/>
            <a:ext cx="1151280" cy="46044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4221000"/>
            <a:ext cx="3313080" cy="57636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363640" y="4292640"/>
            <a:ext cx="71640" cy="43164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508720" y="4249800"/>
            <a:ext cx="1511280" cy="40320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7451280" y="4292640"/>
            <a:ext cx="1079640" cy="36036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1800" y="1743120"/>
            <a:ext cx="8420400" cy="337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1908000" y="40910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820880" y="4565520"/>
            <a:ext cx="1104840" cy="447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" descr=""/>
          <p:cNvPicPr/>
          <p:nvPr/>
        </p:nvPicPr>
        <p:blipFill>
          <a:blip r:embed="rId4"/>
          <a:stretch/>
        </p:blipFill>
        <p:spPr>
          <a:xfrm>
            <a:off x="6848640" y="41641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056280" y="4595760"/>
            <a:ext cx="175752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Windows 用户</cp:lastModifiedBy>
  <dcterms:modified xsi:type="dcterms:W3CDTF">2019-07-13T02:55:4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45</vt:lpwstr>
  </property>
</Properties>
</file>